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5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6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7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898DC-A640-4C8E-AECB-30AD8618A2F3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1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hen the model aircraft passes the intersection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 for the whole manoeuvre (that is: after 1/4 of the first loop of the first eigh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een flown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first inside loop segment: from normal upright level fligh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fly upwards along a circular flight path to a height of line elevation angle 45 degrees, at whic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it should be inverted. The model aircraft should continue its circular flight path downward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thout interruption until reaching the normal upright level flight height of 1.5 metres, plus/minus 3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m, at which point it should be upright. The model aircraft should then continue, without interruption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ts circular flight path for a further 1/4 of a loop until reaching the intersection point, at which poin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intersection point first defined by the model aircraft at the beginning of thi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whole of the manoeuvre. At the time of passing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and transitioning to the first outside loop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"vertical" nose up attitude but should not visibly travel in a "straight line", nor travel along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ing flight pa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– the outside loop segment (actually 1 complete loop from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wards): after passing through the intersection point the model aircraft should continue,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ruption, to fly a complete outside loop by flying upwards along a circular flight path to a heigh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, at which point the model aircraft should be upright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continue its circular flight path downwards, without interruptions, until reaching the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height of 1.5 metres, plus/minus 30 cm, at which point it should be inverted.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then continue, without interruption, its circular flight path for a further 1/4 of a loop until reach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point, at which point it should be momentarily "vertical"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complete eight figure: the model aircraft should follow a flight path exactly as set out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dividual segments above. The second figure eight should be flown in exactly the same posi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when pass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in a "vertical" climb for the fifth and la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after passing the intersection point for the last time, continue the circula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for approximately a further 135 degrees of arc, then descend from this flight path in a div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pproximately 45 degrees until levelling out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2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horizontal square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4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with the model aircraft in normal upright level flight, from the point wher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tarts its first turn upwards into a "vertical" climb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when the model aircraft reaches a "vertical" climbing attitude for the first time, this has defi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intersection lin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– the first climbing turn and "vertical" climbing segment of the first (in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a "vertical" climb, reaching and maintaining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flight 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turn and top "horizontal"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inverted level flight to reach a height of 45 degrees line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s it becomes inverted. This section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first eight figure - the third turn and "vertical" dive segment of the first (in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eight figure - the fourth turn and bottom "horizontal" segment of the first (inside) square loop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turn sharply into smooth upright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, plus/minus 30 cm,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first eight figure - the first climbing turn and "vertical" climb segment of the second (outsid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quare loop: at the end of the previous segment (paragraph e) above), the model aircraft should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arply into a "vertical" climb, reaching and maintaining a "straight line" flight path which is at r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gles to the ground. This flight path should be in exactly the same position as defined by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at the beginning of the manoeuvre (paragraph a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irst eight figure - the second turn and top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upright level flight to reach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s it becomes level. The top segment should be flown with the flight path paralle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irst eight figure - the third turn "vertical" dive segment of the second (outside) square loop: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turn sharply into a "vertical" dive, reaching and maintaining a "straight line"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th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first eight figure - the fourth turn and bottom "horizontal" segment of the second (outside) squa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: the model aircraft should turn sharply into inverted smooth level flight, and this section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arallel to the ground at a height of 1.5 metres plus/minus 30 cm. The length of the whol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eight figure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k) The final turn and last "vertical" climb exit from manoeuvre segment: at the end of the second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horizontal" segment of the fourth loop the model aircraft should again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, reaching and maintaining a "straight line" flight path which is at right angles to the ground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in exactly the same position as defined by the model aircraft at the start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(paragraphs a) and b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) End of manoeuvre: at the end of the last vertical climb segment, before turning into normal upright ex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at 45 degrees line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mplete a further 90 degrees turn into "straight line" upright level flight 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 height of 45 degrees line angle. Maintain this level flight path parallel to the ground until clear of the le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and side of the left hand loop by approximately 5.0 metres then make a turn into a dive of approximate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45 degrees nose down attitude. Recover into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3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vertical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, fly upwar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long a circular flight path to a height of line elevation angle 45 degrees. At this point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should be inverte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fter the model aircraft has flown the first half of an inside loop, as it pass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rough the intersection point for the first time. Note: the intersection of the whole manoeuvre is defined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hen the model aircraft passes through inverted level flight at a height of 45 degrees line elevation ang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eight figure - the first (inside loop) segment: as the model aircraft pass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ersection point for the first time it should continue to fly a completely circular inside loop with no fla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pots or deviations. The bottom of this loop should be at a height of 1.5 metres, plus/minus 30 cm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completed by the model aircraft continuing this circular flight path until reaching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attitud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eight figure - the second (outside loop) segment: as it passes through the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continue without interruption, flying a completely circular outside loop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at spots or deviations. The bottom of this second loop should be at a height of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 and the top should be at 90 degree line elevatio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the flight path of this second loop should touch the intersection point, and this intersection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maintained throughout the entire manoeuvre. At the time of passing through the intersec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and then transitioning into the second (outside) loop, the model aircraft should be momentarily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 level inverted flight attitude but should not visibly follow a "straight line" flight path. Neither shoul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climb nor dive during this momentary period of inverted flight. In addition, the centres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oth loops should be positioned on an imaginary line drawn upwards from the ground at right angl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eight figure: the model aircraft should follow a flight path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. The second figure eight should be flown in exactly the same position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as the model aircraft completes the second eight figure, at the moment when i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reaches inverted level flight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for a further half inside loop until the model aircraft is upright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of 1.5 metres, and then continue in normal level upright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Hourglas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 each turn the 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where the model aircraft starts its first turn into a climb for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turn and inverted climb segment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model aircraft should sharply turn into, and then maintain an inverted climb with a "straight line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angled at approximately 30 degrees past right angles (relative to the ground). The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continued until a sharp outside turn that then results in the model aircraft follow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Wingover manoeuvre flight path. That Wingover flight path should be positioned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entre line axis of the whole manoeuvre and the middle point of this flight path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overhead second turn, wingover, and third turn segment: the "straight line" overhead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should be positioned at 90 degrees to the centre line axis of the whole manoeuvre and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id point of the flight path should be positioned directly over the centre of the circl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its 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 This segment should 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nished with a sharp outside turn through approximately 60 degrees into an inverted div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inverted dive segment: the model aircraft should turn sharply into, and then maintain, an invert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ve with a "straight line" flight path angled at approximately 60 degrees relative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intersection: the intersection of the "straight line" climb and the "straight line" dive flight path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fourth turn and bottom level flight segment: the model aircraft should sharply turn into norma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level flight at a height of 1.5 metres, plus/minus 30 cm. The length of this segment, includ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wo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Symmetry of the complete manoeuvre: the figure should be flown symmetrically in relation to it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"vertical" centre line axis, and this centre line axis should be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End of manoeuvre: at exactly the same point as the model aircraft started its first turn at the start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5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verhead eight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loop diameters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; lowest points of both loops at 45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the model aircraft should climb in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Wingover flight path to a point directly over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s the model aircraft passes through the overhead point for the first tim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Note: the intersection point of the complete manoeuvre should be directly over the centre of the circ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be maintained throughout this entir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first complete (inside loop) segment: from the overhead position the model aircraft should fly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ly circular inside loop, returning to the overhead/intersection point. The right hand bottom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loop should all be at a height of 45 degrees line elevation angle. This loop should be positione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ymmetrically on an imaginary line on the face of the flying hemisphere which is drawn upwards at 9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 to the axis of the model aircraft’s Wingover climb to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passage through the intersection point and transition into the second (outside) loop segment: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passes through the intersection/overhead point, it should smoothly transition in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cond (outside) loop without flat spots or deviations. At the point of flying directly above the centre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ircle the model aircraft should be momentarily in a "knife edge" position with a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9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complete (outside loop) segment: from the overhead position the model aircraft shoul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ransition smoothly into the second completely circular (outside) loop, completing this loop when it h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gain returned to the overhead/inter-section point. The left hand bottom of this loop should be all at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eight of 45 degrees line elevation angle. Those bottoms should also all be positioned symmetrical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n an imaginary line on the face of the flying hemisphere which is drawn upwards at 90 degrees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xis of the model aircraft’s climb to the intersection point (paragraph c) above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eight figure: the model aircraft should fly the second eight figure exactly as set out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dividual segments above and this second eight figure should be flown in exactly the sam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 as the first eight figu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at the end of the second (outside) loop of the second eight figure, as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passes through the intersection poi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by completing most of the second (diving) half of the wingove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light path that was used to start the manoeuvre. Then recover into normal upright level flight at 1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6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Four-leaf cl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90 degrees line elevation angle; width ¼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2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-15228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manoeuvre: at the point of entry into the first (inside)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complete (inside) loop figure: "complete loop" (above) means a full circular loop of 36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grees. The top of this first loop should be tangential to the Wingover path located at 90 degre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centre line axis of the whole manoeuvre. The model aircraft should recover into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a height of 42 degrees line elevation angle. This loop should be positioned tangentially to a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maginary "vertical" line drawn upwards at right angles from the ground. The lateral position of thi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s determined when the model aircraft reaches a "vertical" attitude for the first time and this imagina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 then becomes the lateral reference for the whol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upright level flight at 42 degrees line elevation angle segment: at 42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should fly on an upright level flight path that is parallel to the ground. The length of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(outside) ¾ of a loop segment: " 3/4 of a loop" means a circular arc of 270 degrees. This 3/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be flown as a true arc without visible deviations from a circular flight path and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at a height of 1.5 metres, plus/minus 30 cm. This ¾ loop should end with the model aircraf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ntering a "vertical" climb whose flight path is the same as the great circle line resulting from flying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first "vertical" climb segment: the model aircraft should climb "vertically" at right angles to grou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 length of this segment should be equal to 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third (out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42 degrees line elevation. This ¾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 should end with the model aircraft recovering to inverted level flight at a height of 42 degrees li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The inverted level flight at 42 degrees line elevation angle segment : the model aircraft should follow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 inverted flight path which is parallel to the ground. The length of this segment should be equal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diameter of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h) The fourth (inside) ¾ loop segment: this ¾ loop should be flown as a true arc without visible deviati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rom a circular flight path and the bottom should be at a height of 1.5 metres, plus/minus 30 cm.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¾ loop should end with the model aircraft entering a "vertical" climb whose flight path is the same a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eat circle line resulting from flying the first loo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) The second "vertical" climb segment: the model aircraft should climb "vertically"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length of this segment should be such that the model aircraft flies through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clover leaf figu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j) End of manoeuvre: at the end of the last "vertical" climb, as the model aircraft passes through a poin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above the centre of the circ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the Wingover path from the last vertical climb (paragraph i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bove) into a "vertical dive, then recover into normal upright level flight at 1.5 metres. Other manoeuvr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after completion of the cloverleaf is permitted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522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17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Landing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s the model aircraft leaves a height of 1.5 metres, plus/minus 30 cm, and wi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motor/s stopped (gliding flight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The descent segment: the model aircraft should fly for 1 full gliding lap (power off condition), measu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from the start of the descent at the 1.5 metres plus/minus 30 cm height, until the point of touch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e rate of descent should remain constant throughout this whole gliding lap, from the moment that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aves the 1.5 metres height until the moment that it touches down. The touch down itself should 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mooth and either a "2 point" or a "3 point" touch down shall be judged as being equally corr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when the model aircraft comes to a complete stop after touching down at the 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of the ground roll which is clearly in a forwards direction and in line with its normal flight motion. Th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length of the ground roll shall not exceed one la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3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ake-off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moment when the model aircraft is released to start its ground roll.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odel aircraft must take off from the groun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Ground roll and lift off segment: before lifting off the model aircraft should run along the ground for 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istance of not less than 4.5 metres and not more than 1/4 of a lap. The lift-off should be smooth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aning without a "sudden jump" into the air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Climb out and levelling-off segment: the model aircraft should maintain a constant rate of climb unti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reaching a height of 1.5 metres. The point of changing from climbing flight to level flight should occu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xactly overhead the point of release at the beginning of the Take-off ground roll. The change int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 should be smooth and gentle, with no sudden change/s in attitud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2 laps of upright level flight segment: after levelling off the model aircraft should maintain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and should fly 2 complete laps of stable and smooth normal upright flight, with no abrup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hanges of attitude and without deviations of more than plus/minus 30 cm throughout this segmen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e) End of manoeuvre: at the end of the third lap, exactly overhead the point of beginning the take-off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ground roll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4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Reverse wing-over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beginning of the first turn from normal upright level flight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The first "vertical" climb and dive segment: the model aircraft should turn sharply into a "vertical" clim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should then maintain a "straight line" climb that is at right angles to the ground. It should pa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irectly over the flyer’s head and then change into a "straight line" dive that is also at right angles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ground. This dive should continue until the second turn, which should sharply turn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from its dive into normal "straight line" inverted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The inverted "horizontal" level flight segment: after recovery from the first "vertical" dive and until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tart of the turn into the second "vertical" climb, the model aircraft should fly a segment of smooth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verted level flight segment which is parallel to the ground at a height of 1.5 metres, with no he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ons of more than plus/minus 30 cm, and with no abrupt changes in attitude. The length of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turns, should be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The second "vertical" climb and dive segment: the model aircraft should turn sharply into a "vertical"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limb and should then maintain a "straight line" climb that is at right angles to the ground.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hould pass directly over the flyer’s head and then change into a "straight line" dive that is al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t right angles to the ground. This dive should continue until the fourth turn, which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model aircraft from its dive into normal "straight line" upright level flight at a height of 1.5 metres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t height to be met within plus/minus 30 cm. The point where the model aircraft starts its recover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 into normal upright level flight at the end of the whole manoeuvre should be exactly opposite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first reached a "vertical" climb attitude at the start of the comple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End of manoeuvre: the end of the fourth turn (recovery to normal upright level flight)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5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in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) Start of manoeuvre: at the start of the first loop, as the model aircraft departs normal 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normal upright level flight at 1.5 metres plus/minus 30 cm,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fly smoothly upwards along a circular flight path until reaching a height of line elevation ang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5 degrees. At that point the model aircraft should be inverted. Without interruption the model aircraf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continue its circular flight path downwards until passing the bottom of the loop at a height of 1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etres plus/minus 30 cm, in upright flight. The whole flight path should be circular and smooth, with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eviations and no flat spots. When the model aircraft reaches a "vertical" attitude for the first time thi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has defined the lateral reference line for the whole manoeuvr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completes recovery into norma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upright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the model aircraft should continue for another half loop, recoverin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inverted and descending to the normal inverted flight level within ½ a lap, remaining inverted at a heigh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4.2.15.6. </a:t>
            </a:r>
            <a:r>
              <a:rPr b="1" lang="en-GB" sz="1000" spc="-1" strike="noStrike">
                <a:solidFill>
                  <a:srgbClr val="000000"/>
                </a:solidFill>
                <a:latin typeface="Arial"/>
              </a:rPr>
              <a:t>Two consecutive laps of inverted level flight manoeuv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) Start of manoeuvre: at the start of the third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) 2 laps of inverted flight segment: the model aircraft should maintain 2 complete laps of smooth 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stable inverted flight at a height of 1.5 metres with no height deviations of more than plus/minus 3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m, and with no abrupt changes of attitud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c) End of manoeuvre: at the end of the fourth lap after the exit from the previous manoeuvre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Recommended exit procedure: continue inverted flight, remaining at the normal level flight height of 1.5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000" spc="-1" strike="noStrike">
                <a:solidFill>
                  <a:srgbClr val="000000"/>
                </a:solidFill>
                <a:latin typeface="Arial"/>
              </a:rPr>
              <a:t>metres until entry to the next manoeuvre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4.2.15.7. </a:t>
            </a:r>
            <a:r>
              <a:rPr b="1" lang="en-GB" sz="900" spc="-1" strike="noStrike">
                <a:solidFill>
                  <a:srgbClr val="000000"/>
                </a:solidFill>
                <a:latin typeface="Arial"/>
              </a:rPr>
              <a:t>Three consecutive outside loops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9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ntry procedure: from inverted level flight at a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-171360">
              <a:lnSpc>
                <a:spcPct val="80000"/>
              </a:lnSpc>
              <a:spcBef>
                <a:spcPts val="337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tart of manoeuvre: at the beginning of the first loop, as the model aircraft departs level inverted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b) The first loop figure: from level inverted flight at a height of 1.5 metres plus/minus 30 cm, the mode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ircraft should fly smoothly upwards along a circular flight path until reaching a height of line elevatio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ngle 45 degrees. At that point it should be upright. Without interruption the model aircraft shoul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ontinue its circular flight path downwards until passing the bottom height of 1.5 metres plus/minus 30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m, in inverted flight. The whole flight path should be circular and smooth, with no deviations and n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flat spots. When the model aircraft reaches a "vertical" attitude for the first time this has defined th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lateral reference line for the whole manoeuvr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c) The second and third loop figures: the model aircraft should follow a flight path exactly as describe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above. The second and third loops should be placed in exactly the same position as the first loop,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d) End of manoeuvre: at the end of the third loop, as the model aircraft passes a height of 1.5 metres,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Arial"/>
              </a:rPr>
              <a:t>plus/minus 30 cm, in inverted level flight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Recommended exit procedure: continue for another half loop, recovering to upright flight and the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900" spc="-1" strike="noStrike">
                <a:solidFill>
                  <a:srgbClr val="000000"/>
                </a:solidFill>
                <a:latin typeface="Arial"/>
              </a:rPr>
              <a:t>descending to the normal upright level height of 1.5 metre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1360" indent="0">
              <a:lnSpc>
                <a:spcPct val="80000"/>
              </a:lnSpc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8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climb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rmal upright level fligh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top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inverted level flight at a height of 45 degrees line angle elevation.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bottom "horizontal" segment: the model aircraft should sharply tur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steadily maintain upright level flight at a height of 1.5 metres, plus/minus 30 cm,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evel portion of the flight path should be parallel to the ground and the total length of the bott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, including both turns, should be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 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normal upright level flight at a height of 1.5 metres, plus/minus 30 cm, at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into a "vertical" climb at the beginning of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9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outside square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use ¾ of a lap to climb to a height of 45 degrees line elevation angle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maintain this height in upright level flight for 1/8</a:t>
            </a:r>
            <a:r>
              <a:rPr b="0" i="1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at the point where the model aircraft begins its first turn into a "vertical" dive fro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5 degrees line elevation angl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loop figure - first turn plus "vertical" div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dive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loop figure - second turn plus bottom "horizontal" segment: the model aircraft should turn sharply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to, and then maintain smooth and steady inverted level flight at a height of 1.5 metres withou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eviating by more than plus/minus 30 cm. The level portion of this flight path should be parallel to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round and the total length of the bottom segment, including both turns, should be exactly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loop figure - third turn plus "vertical" climbing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, a "straight line" climb that is at right angles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First loop figure - fourth turn plus top "horizontal" segment: the model aircraft should sharply turn int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nd then steadily maintain upright level flight at a height of 45 degrees line elevation angle. The lev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rtion of this flight path should be parallel to the ground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The second loop figure: the model aircraft should follow a flight path exactly as described i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egments above. The second loop should be placed in exactly the same position as the first loop, and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g) End of manoeuvre: in upright level flight at a height of 45 degrees line elevation angle, at the sa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point where the model aircraft started its first turn at the beginning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maintain upright level flight at a height of 45 degrees line elevation ang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for at least 1.0 metre after the end of the manoeuvre and then descend to the normal upright level fl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height (1.5 metres) within approximately 1/2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4.2.15.10. </a:t>
            </a:r>
            <a:r>
              <a:rPr b="1" lang="en-GB" sz="800" spc="-1" strike="noStrike">
                <a:solidFill>
                  <a:srgbClr val="000000"/>
                </a:solidFill>
                <a:latin typeface="Arial"/>
              </a:rPr>
              <a:t>Two consecutive inside triangular loops manoeuv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Note: all turns in this manoeuvre should be between 1.5 metres and 2.1 metres radius. In each turn t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odel aircraft should change its angle of pitch attitude by approximately 120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Manoeuvre size, overall: height 45 degrees line elevation angle; width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ntry procedure: from normal upright level flight at a height of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) Start of manoeuvre: from the point in normal upright level flight where the model aircraft starts its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) First triangle figure – first turn and climb segment: the model aircraft should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climb and the angle of this flight path should be at 30 degrees beyond vertical in relati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o the ground. After completing the turn the model aircraft should maintain this flight path until starti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second turn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c) First triangle figure – second turn and dive segment: the model aircraft turn sharply into a "straigh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ine" inverted dive and the angle of this flight path should be at 60 degrees (that is: 30 degrees les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an vertical in relation to the ground). After completing the turn the model aircraft should maintain thi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light path until starting the third turn. The height reached during this second turn should not be m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r less than a line elevation angle of 45 degre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d) First triangle figure - third turn plus bottom "horizontal" segment: the aircraft should sharply turn into 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upright "straight line" level flight at a height of 1.5 metres, plus/minus 30 cm. The length of all 3 sid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of this triangular loop (including two turns per side) should be equal, and the bottom segment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including both turns, should be slightly more than 1/8</a:t>
            </a:r>
            <a:r>
              <a:rPr b="0" lang="en-GB" sz="8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 of a lap in length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e) The second triangular loop figure: the model aircraft should follow a flight path exactly as described 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the three segments above. The second loop should be placed in exactly the same position as the first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loop, and should be of exactly the same siz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f) End of manoeuvre: with the model aircraft in normal upright level flight, at the point where the mo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aircraft started its first turn at the start of the complete manoeuvre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800" spc="-1" strike="noStrike">
                <a:solidFill>
                  <a:srgbClr val="000000"/>
                </a:solidFill>
                <a:latin typeface="Arial"/>
              </a:rPr>
              <a:t>Recommended exit procedure: continue normal upright level flight at 1.5 metres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C5AA7B-262D-4F2F-9B4A-A6EDAFBB1E8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40C749-9CA6-4181-B43F-0B1A919CE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B8FC2-5D0C-40A9-8B5A-6243AE49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4B399-455A-4B2D-A8C8-89949B97966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1B958-3996-4227-B403-BCEAB9B96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B4A937-495C-4371-8C20-81D25CF56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1EF742-5A65-4497-9CE6-5EB6206D1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D1B052-3D66-4DBF-A8BC-87F1EA0BD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95B85-4193-4699-A1B6-00E25846A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3939E2-1DA1-4EBF-AE35-8C5D466F3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14500-8A14-4031-B8D0-069F991AC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2259C2-49BB-4DA2-8CA0-394BEB011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1D60B-13E1-436F-B55A-798EA6D73B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24000" y="907920"/>
            <a:ext cx="853416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654240" y="239760"/>
            <a:ext cx="2169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2B Work Gr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987640" y="189000"/>
            <a:ext cx="275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8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" name=""/>
          <p:cNvGraphicFramePr/>
          <p:nvPr/>
        </p:nvGraphicFramePr>
        <p:xfrm>
          <a:off x="324000" y="115920"/>
          <a:ext cx="1079280" cy="669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4000" y="115920"/>
                    <a:ext cx="1079280" cy="66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" name=""/>
          <p:cNvSpPr/>
          <p:nvPr/>
        </p:nvSpPr>
        <p:spPr>
          <a:xfrm>
            <a:off x="2835720" y="6286680"/>
            <a:ext cx="328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258920" y="784440"/>
            <a:ext cx="2165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IAM Subcommittee F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ML Serenade" descr=""/>
          <p:cNvPicPr/>
          <p:nvPr/>
        </p:nvPicPr>
        <p:blipFill>
          <a:blip r:embed="rId1"/>
          <a:stretch/>
        </p:blipFill>
        <p:spPr>
          <a:xfrm>
            <a:off x="1332000" y="1268280"/>
            <a:ext cx="1778040" cy="101628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1258920" y="2348640"/>
            <a:ext cx="48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34210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F2B Work Group</a:t>
            </a:r>
            <a:r>
              <a:rPr b="1" lang="en-GB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258920" y="3357720"/>
            <a:ext cx="64818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995640" y="1989000"/>
            <a:ext cx="44640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Eurochamps F2, July 2007, Belgrad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400" spc="-1" strike="noStrike">
                <a:solidFill>
                  <a:srgbClr val="000000"/>
                </a:solidFill>
                <a:latin typeface="Arial"/>
              </a:rPr>
              <a:t>F2B Judging Worksho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3635280" y="5157720"/>
          <a:ext cx="1584360" cy="982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5157720"/>
                    <a:ext cx="1584360" cy="98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F62F6E-03F1-497F-8F6B-757B8EBB723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85104E-2F11-48D8-9AF8-47DA45BF17E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5839BD-CAE4-4526-B5FB-D0BFDD2CB1E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530360" y="890640"/>
            <a:ext cx="6083280" cy="507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E9864-AD0D-4916-901F-E8C14D9CA79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523880" y="1455840"/>
            <a:ext cx="6094440" cy="394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46613-6639-4E81-A4BD-28AD500EA06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979640" y="907920"/>
            <a:ext cx="5489640" cy="538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87EA70-6D27-49D0-ADDA-EFBA0FE170D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530360" y="2255760"/>
            <a:ext cx="6083280" cy="234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54C4-BB8C-44D6-8BAE-3667EBE903E8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58920" y="2060640"/>
            <a:ext cx="6481800" cy="240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2400" spc="-1" strike="noStrike">
                <a:solidFill>
                  <a:srgbClr val="000000"/>
                </a:solidFill>
                <a:latin typeface="Arial"/>
              </a:rPr>
              <a:t>The Manoeuv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3600" spc="-1" strike="noStrike">
                <a:solidFill>
                  <a:srgbClr val="000000"/>
                </a:solidFill>
                <a:latin typeface="Arial"/>
              </a:rPr>
              <a:t>Thank You 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Arial"/>
              </a:rPr>
              <a:t>Presented by Massimo Semoli, CIAM Secretary/Delegate, Ita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54AAB-342C-409F-A9F2-EC66322FF63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403280" y="1916280"/>
            <a:ext cx="6083280" cy="2490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FD3CC-9264-4BE0-8FB0-04E0CEC3C3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530360" y="879480"/>
            <a:ext cx="6083280" cy="5097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1069B0-FB12-4E22-8B44-2892EEC0596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17C969-72B9-454F-A838-70B4C0D7A8C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530360" y="1941480"/>
            <a:ext cx="6083280" cy="2975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0594E-7F38-436D-8902-F4D7AB959AF7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A048B8-5F37-4A9A-A7CC-35BCB63B7E1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EBEA80-7FFE-4CA5-8D60-9AC32842A1C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A7D08-C1E0-456E-8CF4-F3BA29BC584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530360" y="1779480"/>
            <a:ext cx="6083280" cy="329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562863-D0FF-4BB4-8512-656F06727E1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8T15:11:36Z</dcterms:created>
  <dc:creator>Peter D. Germann</dc:creator>
  <dc:description/>
  <dc:language>en-US</dc:language>
  <cp:lastModifiedBy>Massimo Semoli</cp:lastModifiedBy>
  <dcterms:modified xsi:type="dcterms:W3CDTF">2007-07-04T00:24:01Z</dcterms:modified>
  <cp:revision>34</cp:revision>
  <dc:subject/>
  <dc:title>Folie 1</dc:title>
</cp:coreProperties>
</file>